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A8C-D6E3-4300-8159-E49D42CC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7DD-73B7-47AC-B508-12D7A8D0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45C-0A19-47C3-AE46-562FE58C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331-1F1E-45F5-A398-F9567B8D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1A2-2AFC-49C2-992C-74BF4376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4F1-46B7-4896-9FC5-8156F5CC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974-5026-4A03-9D33-5EE15F3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794-B50B-4D33-826C-97A78EC7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ABC-4254-43EC-8297-8CEF162B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ED1-8FA1-4A5F-B533-A47228D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240-1A39-488E-94AF-19D301D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2D1-A900-472D-BDF8-7EA21C2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4A2-F1E2-472E-9D58-A95487A52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2 Príde skoro už ten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de skoro už ten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každá bolesť vzdia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remä hriechu spadne z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za oko nezakal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ľ a smútok pre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večná na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doba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skončí utrp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ou hľaďme k nebe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kiaľ máme vykú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ujme Pán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me stále hotov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9T11:57:00Z</dcterms:modified>
  <cp:revision>21</cp:revision>
  <dc:subject/>
  <dc:title>Je veľký náš Pán, on slávy je Kráľ Nech do všetkých strán  spev vrúcnych znie chvál.</dc:title>
</cp:coreProperties>
</file>